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12E4-E98E-47A4-AA70-9AD295F4D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8062-85D4-4D5C-AD82-CB7E54B70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98E1-978B-4DFA-BA93-4E4A073DE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54ED-C7E3-4418-A23E-E38D1A80C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DB1B-BF93-4F5A-8894-64E039479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FBA1-98D0-4349-8286-E1F6F707B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EC04-F60F-450F-8776-4D2540A87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4E3A-A54E-4E62-A95C-B675020B0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DBF5-EB4E-4BEA-89DE-05EEE15AC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9872-1BB8-412E-AE81-7674AB53E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123D-24F6-41BC-9905-1C7B36A09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ED5E-6F35-44A6-ABC4-C5A5DF5E9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BFE50-D932-4F4F-9875-EC50C1986E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ssian 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6572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, Ben, and Ter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: Pyren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-76320"/>
            <a:ext cx="9372600" cy="73152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Land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ussia has many landforms includ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2 seas, 8 mountains ranges, 6 rivers, 6 sets of islands, the Baikal lake, and the Kanchatka Penninsu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Russian Seas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ssian seas are plentiful but not the fish within them. Only 2 of the 12 seas supply well fish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al Sea was drying up when Russia still had control of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khotsk and Sea of Japan are the only seas that border Russia with good fis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152280" y="-2087640"/>
            <a:ext cx="16583040" cy="894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2392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untain Rang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d03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d0303"/>
                </a:solidFill>
                <a:latin typeface="Arial"/>
              </a:rPr>
              <a:t>There are many mountains ranges such as Ural, Tanna Ola, Sayan, Yabonovyy, Stanover, Cherskiy, Kolym, and Cauca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d03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d0303"/>
                </a:solidFill>
                <a:latin typeface="Arial"/>
              </a:rPr>
              <a:t>These mountains make traveling h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-1600200" y="8915400"/>
            <a:ext cx="16583040" cy="795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v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no use in using rivers for hydroelectric power, trading or transpor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ivers in Russia are the Volga, Irliysh, Ob, Lena, Kenisey, and Am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ongest river in Russia is the Volg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-380880"/>
            <a:ext cx="9296280" cy="72388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l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The islands in Russia are the The Fronz Josef l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ke Baik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22:23:09Z</dcterms:created>
  <dc:creator> </dc:creator>
  <dc:description/>
  <dc:language>en-US</dc:language>
  <cp:lastModifiedBy> </cp:lastModifiedBy>
  <dcterms:modified xsi:type="dcterms:W3CDTF">2010-12-15T22:55:25Z</dcterms:modified>
  <cp:revision>3</cp:revision>
  <dc:subject/>
  <dc:title>Russian Land</dc:title>
</cp:coreProperties>
</file>